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CFA5-1F5B-4020-8514-5CDA955DB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34FE-C9A5-4702-93B9-F7175482F7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9B33-D0EF-49A1-AC98-6FAA20C883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E18D-1D45-42E6-B327-ABCAF9D7BD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80EE-E1B3-435B-BF7D-AAE980457E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A633-D5BD-4910-A2C0-118D293BCF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6F22-AC8C-4028-A7ED-ACCF909144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D297-46A1-4EAD-8632-77DE84A299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85E3-BB32-4D2E-85AC-719EA9B15B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47D1-DBC3-4F5D-862B-14A11F0FDE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E565-B239-43B7-AE41-111191A7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B41F-CB54-4581-96CD-A98C58CC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EFC-01EF-443C-B986-949269F4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B3C3-FB2F-4638-AF97-CE68B90D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EF43-D05A-4C68-BFCB-DF8B5F4E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61BB-ABC7-45F4-BDFA-E05EB02B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F4A5-BBB3-4E2F-9F3F-B9613C61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DA53-1239-424E-A426-4790AAB7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DC5-4197-4FFC-8A5F-1C2EAF8B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747-293C-4187-8B0F-7E75CEC3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6BDD-A508-4F15-952E-B4628331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C598-34A7-4CAF-AD0C-076400A0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A217-B91E-4E3B-BF17-B8EA5E1CE6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3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NarutoShuriken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Traditional </a:t>
            </a:r>
            <a:r>
              <a:rPr b="0" lang="ja-JP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日本　</a:t>
            </a:r>
            <a:r>
              <a:rPr b="0" lang="en-US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Weapon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80808"/>
                </a:solidFill>
                <a:latin typeface="Arial"/>
              </a:rPr>
              <a:t>クイズ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かたな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Triple E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Single E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Doubled Edg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3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3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ヌンチャク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ere connected by _____or cha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6858000" y="19810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00000"/>
                </a:solidFill>
                <a:latin typeface="Arial"/>
              </a:rPr>
              <a:t>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さい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carried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3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2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1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3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________ has a sickle on one end and a weight on the 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5720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0000"/>
                </a:solidFill>
                <a:latin typeface="Arial"/>
              </a:rPr>
              <a:t>くさりが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ぼう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______ lo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5.68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4.82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1.28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d) 1.82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4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4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しゅりけん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made from 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6934320" y="1981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00000"/>
                </a:solidFill>
                <a:latin typeface="Arial"/>
              </a:rPr>
              <a:t>co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ゆみ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_____ t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4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2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6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4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4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katana-300x3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かたな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rried by Samur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ngle-e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ng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rved Bl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nunchucks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ヌンチャク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wo sticks connected by rope or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effic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use-sai-weapon-200X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さい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ap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rried in 3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b_KUSARIGAM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くさりがま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ckle on one end weight on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ight was swung, sickle used 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hurik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しゅりけん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st popular in moder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ed to support main wea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so used for other purp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f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de from co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bostaf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ぼう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ng wooden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ditionally 1.82m 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rd w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asn’t originally a wea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ゆみ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ed by Samur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ver 2m t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2" name="Picture 5" descr="NarutoShurikenBig"/>
            <p:cNvPicPr/>
            <p:nvPr/>
          </p:nvPicPr>
          <p:blipFill>
            <a:blip r:embed="rId1"/>
            <a:stretch/>
          </p:blipFill>
          <p:spPr>
            <a:xfrm>
              <a:off x="2214360" y="1981080"/>
              <a:ext cx="385812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4" descr="shuriken"/>
            <p:cNvPicPr/>
            <p:nvPr/>
          </p:nvPicPr>
          <p:blipFill>
            <a:blip r:embed="rId2"/>
            <a:stretch/>
          </p:blipFill>
          <p:spPr>
            <a:xfrm>
              <a:off x="5760" y="4267080"/>
              <a:ext cx="304596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" descr="use-sai-weapon-200X200"/>
            <p:cNvPicPr/>
            <p:nvPr/>
          </p:nvPicPr>
          <p:blipFill>
            <a:blip r:embed="rId3"/>
            <a:stretch/>
          </p:blipFill>
          <p:spPr>
            <a:xfrm>
              <a:off x="3052080" y="4495680"/>
              <a:ext cx="304596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4" descr="nunchucks1"/>
            <p:cNvPicPr/>
            <p:nvPr/>
          </p:nvPicPr>
          <p:blipFill>
            <a:blip r:embed="rId4"/>
            <a:stretch/>
          </p:blipFill>
          <p:spPr>
            <a:xfrm>
              <a:off x="6021720" y="3657600"/>
              <a:ext cx="31222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db_KUSARIGAMA2"/>
            <p:cNvPicPr/>
            <p:nvPr/>
          </p:nvPicPr>
          <p:blipFill>
            <a:blip r:embed="rId5"/>
            <a:stretch/>
          </p:blipFill>
          <p:spPr>
            <a:xfrm>
              <a:off x="5869800" y="0"/>
              <a:ext cx="327420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" descr="katana-300x300"/>
            <p:cNvPicPr/>
            <p:nvPr/>
          </p:nvPicPr>
          <p:blipFill>
            <a:blip r:embed="rId6"/>
            <a:stretch/>
          </p:blipFill>
          <p:spPr>
            <a:xfrm>
              <a:off x="3508920" y="0"/>
              <a:ext cx="236052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6" descr=""/>
            <p:cNvPicPr/>
            <p:nvPr/>
          </p:nvPicPr>
          <p:blipFill>
            <a:blip r:embed="rId7"/>
            <a:stretch/>
          </p:blipFill>
          <p:spPr>
            <a:xfrm>
              <a:off x="5760" y="0"/>
              <a:ext cx="3502800" cy="21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5" descr="bostaff"/>
            <p:cNvPicPr/>
            <p:nvPr/>
          </p:nvPicPr>
          <p:blipFill>
            <a:blip r:embed="rId8"/>
            <a:stretch/>
          </p:blipFill>
          <p:spPr>
            <a:xfrm>
              <a:off x="0" y="2048040"/>
              <a:ext cx="2680200" cy="222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y: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ジェームズ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ライアン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09:55Z</dcterms:created>
  <dc:creator>SD#34</dc:creator>
  <dc:description/>
  <dc:language>en-US</dc:language>
  <cp:lastModifiedBy>Owner</cp:lastModifiedBy>
  <dcterms:modified xsi:type="dcterms:W3CDTF">2009-12-11T00:42:01Z</dcterms:modified>
  <cp:revision>16</cp:revision>
  <dc:subject/>
  <dc:title>Traditional 日本　Weapons</dc:title>
</cp:coreProperties>
</file>